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19.wmf" ContentType="image/x-wmf"/>
  <Override PartName="/ppt/media/image18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885C-04F5-42E5-BF90-03F882BE47F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F3FF-B9F2-41B4-B77A-8D0A1B0A7F3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63D4-9026-4AE7-8201-1A3F8B420F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D0F4-E3F6-4D99-9971-725FDABD14E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025F-7B49-4620-B2A1-F1E4FC26343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D8C3-7FFE-4429-A243-CF2E35DDB48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33DD-3180-4899-9DAD-DC812EA9951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4DB5-08B4-4154-AFFB-9640848FE48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06B7-9268-45BF-8DAE-D202D1D54B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D2BE-3A6F-472F-AF50-AE7F64CDD0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1988-8376-4E0C-B670-FCBE6583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986A-0864-457D-9134-E8E51E3D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F7F-3DE7-4BAB-B570-7A7D72D9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C72-C1EA-4FF1-9040-A185B379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BDD3-3EEA-47A0-A549-5FFA7600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0BBB-FC84-4231-A47E-C4550EFD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22A5-EB9B-4984-8EDD-0200AEE2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3A45-A780-460A-B6C9-25B9CF67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7A6C-9FA8-407F-86C4-3D138CD6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8769-CA53-4804-B163-2079B5B5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A11F-3605-482E-96BB-D6FC7D36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FA2-1EE9-4195-B5DF-C1F32921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8EEA-136A-4DE1-BC83-927E0FDD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0A1B-7E90-45E6-A391-545C4C68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AD7A-6CFC-4D12-956D-3F881352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6BFD-EF17-454F-92A1-2C804B44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A0C1-AC0E-4404-8063-2026E3C1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C4D-A526-4A6D-BD3F-6574C4A3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D40-592F-48F8-9CC8-8CDF3F7E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CCC-BD15-49CD-822C-B10BD9A0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0F5D-D5F4-41D9-A582-105846F0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9F61-E49E-495A-87CB-AE4889C0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C37-CE9D-4620-A54D-4F818E3A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7B1-FB32-44B4-B535-B7916F3B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prstGeom prst="pie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14"/>
            <p:cNvSpPr/>
            <p:nvPr/>
          </p:nvSpPr>
          <p:spPr>
            <a:xfrm>
              <a:off x="0" y="742320"/>
              <a:ext cx="5876640" cy="44712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A324-D2BA-4992-889E-14B152FAABD1}" type="datetime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http://matlab-recognition-cod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DE04-2C75-45ED-8A00-9C3AA337A537}" type="slidenum">
              <a:rPr b="0" lang="ar-SA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 rot="16191000">
              <a:off x="-7920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 rot="10768800">
              <a:off x="8760960" y="6398640"/>
              <a:ext cx="368280" cy="45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2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27DE-0950-4624-BBF3-FD482CC10F5E}" type="datetime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http://matlab-recognition-cod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3560-A93B-4259-825F-5456EA4E4BF2}" type="slidenum">
              <a:rPr b="0" lang="ar-SA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mPrint Identification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7160" y="4776480"/>
            <a:ext cx="48844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 :Hamdi Boukamcha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5351400" y="4543560"/>
            <a:ext cx="3124440" cy="2314440"/>
          </a:xfrm>
          <a:prstGeom prst="ellipse">
            <a:avLst/>
          </a:prstGeom>
          <a:gradFill rotWithShape="0">
            <a:gsLst>
              <a:gs pos="0">
                <a:srgbClr val="006587"/>
              </a:gs>
              <a:gs pos="100000">
                <a:srgbClr val="0099cc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21"/>
          <p:cNvSpPr txBox="1"/>
          <p:nvPr/>
        </p:nvSpPr>
        <p:spPr>
          <a:xfrm>
            <a:off x="4811760" y="4700520"/>
            <a:ext cx="398628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ButtonPour">
              <a:avLst>
                <a:gd name="adj1" fmla="val 11390606"/>
                <a:gd name="adj2" fmla="val 5081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abic Typesetting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abic Typesetting"/>
              <a:ea typeface="Arabic Typesetting"/>
            </a:endParaRPr>
          </a:p>
        </p:txBody>
      </p:sp>
      <p:sp>
        <p:nvSpPr>
          <p:cNvPr id="117" name="Line 23"/>
          <p:cNvSpPr/>
          <p:nvPr/>
        </p:nvSpPr>
        <p:spPr>
          <a:xfrm>
            <a:off x="5433840" y="5257800"/>
            <a:ext cx="2953080" cy="0"/>
          </a:xfrm>
          <a:prstGeom prst="line">
            <a:avLst/>
          </a:prstGeom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5479920" y="5943600"/>
            <a:ext cx="2860920" cy="0"/>
          </a:xfrm>
          <a:prstGeom prst="line">
            <a:avLst/>
          </a:prstGeom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6480000" y="2357280"/>
            <a:ext cx="1808280" cy="1941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eature Extr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EignPalm-based approach to extract the features of palmprint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nd the eign-vectors that best account for the distribution of the palmprint image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Eignvectors of the covariance matrix palmprint like in appearance, we refer  to them as “EignPalms”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9" name="عنصر نائب للتاريخ 3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4E60-9EAE-4F37-91ED-46D725C3AE21}" type="datetime">
              <a:rPr b="0" lang="en-US" sz="1400" spc="-1" strike="noStrike">
                <a:solidFill>
                  <a:srgbClr val="1d528d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عنصر نائب للتذييل 4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http://matlab-recognition-cod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717E-9CFC-4D21-9574-FD166136990C}" type="slidenum">
              <a:rPr b="0" lang="ar-SA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Feature Extr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Mathematical Calculation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Mean of training palmprint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ovariance matrix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Eigenvectors and eigenvalue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عنصر نائب للتاريخ 3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78D2-8B50-464A-AD1B-FCF4FD81254D}" type="datetime">
              <a:rPr b="0" lang="en-US" sz="1400" spc="-1" strike="noStrike">
                <a:solidFill>
                  <a:srgbClr val="1d528d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عنصر نائب للتذييل 4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http://matlab-recognition-cod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عنصر نائب لرقم الشريحة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C83C-6A3D-4867-B08E-211992358271}" type="slidenum">
              <a:rPr b="0" lang="ar-SA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1"/>
              <p:cNvSpPr txBox="1"/>
              <p:nvPr/>
            </p:nvSpPr>
            <p:spPr>
              <a:xfrm>
                <a:off x="1995480" y="2725560"/>
                <a:ext cx="19065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9" name="Rectangle 3"/>
          <p:cNvSpPr/>
          <p:nvPr/>
        </p:nvSpPr>
        <p:spPr>
          <a:xfrm>
            <a:off x="0" y="581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1778040" y="4521240"/>
                <a:ext cx="3146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2" name="Rectangle 6"/>
          <p:cNvSpPr/>
          <p:nvPr/>
        </p:nvSpPr>
        <p:spPr>
          <a:xfrm>
            <a:off x="0" y="5810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0"/>
              <p:cNvSpPr txBox="1"/>
              <p:nvPr/>
            </p:nvSpPr>
            <p:spPr>
              <a:xfrm>
                <a:off x="747720" y="5537160"/>
                <a:ext cx="695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5" name="Rectangle 12"/>
          <p:cNvSpPr/>
          <p:nvPr/>
        </p:nvSpPr>
        <p:spPr>
          <a:xfrm>
            <a:off x="0" y="2761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53600" y="24912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almPrint Matc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e Euclidian distance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hosen threshold (Experimentally)    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Below      : palmprint ‘classified’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otherwise :palmprint ‘unknown’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In Our Project :      =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0.8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عنصر نائب للتاريخ 3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170A-C943-4D59-9216-65EA4CDE6D81}" type="datetime">
              <a:rPr b="0" lang="en-US" sz="1400" spc="-1" strike="noStrike">
                <a:solidFill>
                  <a:srgbClr val="1d528d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عنصر نائب للتذييل 4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http://matlab-recognition-cod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عنصر نائب لرقم الشريحة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6B0A-3C5D-430C-BB57-E4B25049E9EE}" type="slidenum">
              <a:rPr b="0" lang="ar-SA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"/>
              <p:cNvSpPr txBox="1"/>
              <p:nvPr/>
            </p:nvSpPr>
            <p:spPr>
              <a:xfrm>
                <a:off x="2279520" y="2214720"/>
                <a:ext cx="469764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Ω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3" name="Rectangle 3"/>
          <p:cNvSpPr/>
          <p:nvPr/>
        </p:nvSpPr>
        <p:spPr>
          <a:xfrm>
            <a:off x="0" y="3240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7"/>
              <p:cNvSpPr txBox="1"/>
              <p:nvPr/>
            </p:nvSpPr>
            <p:spPr>
              <a:xfrm>
                <a:off x="7083360" y="3311640"/>
                <a:ext cx="554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6" name="Rectangle 9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3193920" y="3819600"/>
                <a:ext cx="5796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9" name="Rectangle 12"/>
          <p:cNvSpPr/>
          <p:nvPr/>
        </p:nvSpPr>
        <p:spPr>
          <a:xfrm>
            <a:off x="0" y="3049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3"/>
              <p:cNvSpPr txBox="1"/>
              <p:nvPr/>
            </p:nvSpPr>
            <p:spPr>
              <a:xfrm>
                <a:off x="3656160" y="5092560"/>
                <a:ext cx="579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MY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xperiment  and Results</a:t>
            </a: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tep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1d528d"/>
                </a:solidFill>
                <a:latin typeface="Arial"/>
              </a:rPr>
              <a:t>1- a set of palm images of known persons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1d528d"/>
                </a:solidFill>
                <a:latin typeface="Arial"/>
              </a:rPr>
              <a:t>(5 images for each persons).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3200" spc="-1" strike="noStrike">
                <a:solidFill>
                  <a:srgbClr val="1d528d"/>
                </a:solidFill>
                <a:latin typeface="Arial"/>
              </a:rPr>
              <a:t>2- following the stages as in previous flow chart ( acquisition + pre-processing+ feature extraction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3- using the matlab program developed of algebraic equations (EigenPalm method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4- Testing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عنصر نائب للتاريخ 3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2674-EA54-410B-9AF3-9B8F781F2873}" type="datetime">
              <a:rPr b="0" lang="en-US" sz="1400" spc="-1" strike="noStrike">
                <a:solidFill>
                  <a:srgbClr val="1d528d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عنصر نائب للتذييل 4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http://matlab-recognition-cod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عنصر نائب لرقم الشريحة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729B-D8C9-4A9F-BCBF-07E6D260E798}" type="slidenum">
              <a:rPr b="0" lang="ar-SA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esting The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Demo Show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omments: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reshold of 0.75 experminetlly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Recognition rate up to 90%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Good rate in recognition world !!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عنصر نائب للتاريخ 3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FD57-695B-4962-A266-765CF836378A}" type="datetime">
              <a:rPr b="0" lang="en-US" sz="1400" spc="-1" strike="noStrike">
                <a:solidFill>
                  <a:srgbClr val="1d528d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عنصر نائب للتذييل 4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http://matlab-recognition-cod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عنصر نائب لرقم الشريحة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BDEB-C4AB-4BC2-A1C3-43D6AF9DDA72}" type="slidenum">
              <a:rPr b="0" lang="ar-SA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3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3A1E-7911-41C3-A157-CE1A375D8E33}" type="datetime">
              <a:rPr b="0" lang="en-US" sz="1400" spc="-1" strike="noStrike">
                <a:solidFill>
                  <a:srgbClr val="1d528d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http://matlab-recognition-cod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2E57-6778-432E-9ECB-3EE90EB0329F}" type="slidenum">
              <a:rPr b="0" lang="ar-SA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26840" y="311040"/>
            <a:ext cx="6661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rcial Appl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29"/>
          <p:cNvSpPr/>
          <p:nvPr/>
        </p:nvSpPr>
        <p:spPr>
          <a:xfrm>
            <a:off x="338040" y="1938960"/>
            <a:ext cx="3517920" cy="3120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Palmprint   Identification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( Polytechnic Univers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device_1"/>
          <p:cNvPicPr/>
          <p:nvPr/>
        </p:nvPicPr>
        <p:blipFill>
          <a:blip r:embed="rId1"/>
          <a:stretch/>
        </p:blipFill>
        <p:spPr>
          <a:xfrm>
            <a:off x="4025880" y="191772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7124-FE0E-4DB7-96FD-8B7B6E1641DD}" type="datetime">
              <a:rPr b="0" lang="en-US" sz="1400" spc="-1" strike="noStrike">
                <a:solidFill>
                  <a:srgbClr val="1d528d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http://matlab-recognition-cod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BB03-65A1-4218-B450-7F436DDFCFB0}" type="slidenum">
              <a:rPr b="0" lang="ar-SA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51814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L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20"/>
          <p:cNvGrpSpPr/>
          <p:nvPr/>
        </p:nvGrpSpPr>
        <p:grpSpPr>
          <a:xfrm>
            <a:off x="6032880" y="2144880"/>
            <a:ext cx="2730240" cy="3123360"/>
            <a:chOff x="6032880" y="2144880"/>
            <a:chExt cx="2730240" cy="3123360"/>
          </a:xfrm>
        </p:grpSpPr>
        <p:grpSp>
          <p:nvGrpSpPr>
            <p:cNvPr id="252" name="Group 4"/>
            <p:cNvGrpSpPr/>
            <p:nvPr/>
          </p:nvGrpSpPr>
          <p:grpSpPr>
            <a:xfrm>
              <a:off x="7417800" y="2144880"/>
              <a:ext cx="1345320" cy="3112200"/>
              <a:chOff x="7417800" y="2144880"/>
              <a:chExt cx="1345320" cy="3112200"/>
            </a:xfrm>
          </p:grpSpPr>
          <p:sp>
            <p:nvSpPr>
              <p:cNvPr id="253" name="Freeform 5"/>
              <p:cNvSpPr/>
              <p:nvPr/>
            </p:nvSpPr>
            <p:spPr>
              <a:xfrm flipH="1">
                <a:off x="7525800" y="2460960"/>
                <a:ext cx="1089360" cy="253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6"/>
              <p:cNvSpPr/>
              <p:nvPr/>
            </p:nvSpPr>
            <p:spPr>
              <a:xfrm flipH="1">
                <a:off x="7659360" y="2956320"/>
                <a:ext cx="871560" cy="204408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7"/>
              <p:cNvSpPr/>
              <p:nvPr/>
            </p:nvSpPr>
            <p:spPr>
              <a:xfrm flipH="1">
                <a:off x="7497360" y="2429280"/>
                <a:ext cx="1145880" cy="259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8"/>
              <p:cNvSpPr/>
              <p:nvPr/>
            </p:nvSpPr>
            <p:spPr>
              <a:xfrm flipH="1">
                <a:off x="7417800" y="2144880"/>
                <a:ext cx="1331280" cy="358200"/>
              </a:xfrm>
              <a:prstGeom prst="pie">
                <a:avLst/>
              </a:prstGeom>
              <a:solidFill>
                <a:srgbClr val="996633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AutoShape 9"/>
              <p:cNvSpPr/>
              <p:nvPr/>
            </p:nvSpPr>
            <p:spPr>
              <a:xfrm flipH="1">
                <a:off x="7423200" y="4952160"/>
                <a:ext cx="1339560" cy="304920"/>
              </a:xfrm>
              <a:prstGeom prst="roundRect">
                <a:avLst>
                  <a:gd name="adj" fmla="val 49176"/>
                </a:avLst>
              </a:prstGeom>
              <a:solidFill>
                <a:srgbClr val="996633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0"/>
            <p:cNvGrpSpPr/>
            <p:nvPr/>
          </p:nvGrpSpPr>
          <p:grpSpPr>
            <a:xfrm>
              <a:off x="6032880" y="2523960"/>
              <a:ext cx="1902600" cy="2744280"/>
              <a:chOff x="6032880" y="2523960"/>
              <a:chExt cx="1902600" cy="2744280"/>
            </a:xfrm>
          </p:grpSpPr>
          <p:sp>
            <p:nvSpPr>
              <p:cNvPr id="259" name="Freeform 11"/>
              <p:cNvSpPr/>
              <p:nvPr/>
            </p:nvSpPr>
            <p:spPr>
              <a:xfrm flipH="1">
                <a:off x="6822720" y="2523960"/>
                <a:ext cx="642240" cy="61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2"/>
              <p:cNvSpPr/>
              <p:nvPr/>
            </p:nvSpPr>
            <p:spPr>
              <a:xfrm flipH="1">
                <a:off x="6468480" y="3146040"/>
                <a:ext cx="498240" cy="114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3"/>
              <p:cNvSpPr/>
              <p:nvPr/>
            </p:nvSpPr>
            <p:spPr>
              <a:xfrm flipH="1">
                <a:off x="6720480" y="4021200"/>
                <a:ext cx="1014840" cy="776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4"/>
              <p:cNvSpPr/>
              <p:nvPr/>
            </p:nvSpPr>
            <p:spPr>
              <a:xfrm flipH="1">
                <a:off x="6032520" y="3159720"/>
                <a:ext cx="757800" cy="49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5"/>
              <p:cNvSpPr/>
              <p:nvPr/>
            </p:nvSpPr>
            <p:spPr>
              <a:xfrm flipH="1">
                <a:off x="6453720" y="3975120"/>
                <a:ext cx="502200" cy="129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16"/>
              <p:cNvSpPr/>
              <p:nvPr/>
            </p:nvSpPr>
            <p:spPr>
              <a:xfrm flipH="1">
                <a:off x="6864840" y="2745360"/>
                <a:ext cx="1070640" cy="76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7"/>
            <p:cNvGrpSpPr/>
            <p:nvPr/>
          </p:nvGrpSpPr>
          <p:grpSpPr>
            <a:xfrm>
              <a:off x="6936120" y="4559400"/>
              <a:ext cx="226440" cy="427680"/>
              <a:chOff x="6936120" y="4559400"/>
              <a:chExt cx="226440" cy="427680"/>
            </a:xfrm>
          </p:grpSpPr>
          <p:sp>
            <p:nvSpPr>
              <p:cNvPr id="266" name="Freeform 18"/>
              <p:cNvSpPr/>
              <p:nvPr/>
            </p:nvSpPr>
            <p:spPr>
              <a:xfrm flipH="1">
                <a:off x="7068240" y="4559400"/>
                <a:ext cx="94320" cy="34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9"/>
              <p:cNvSpPr/>
              <p:nvPr/>
            </p:nvSpPr>
            <p:spPr>
              <a:xfrm flipH="1">
                <a:off x="6935760" y="4682520"/>
                <a:ext cx="122040" cy="30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8" name="Text Box 22"/>
          <p:cNvSpPr/>
          <p:nvPr/>
        </p:nvSpPr>
        <p:spPr>
          <a:xfrm>
            <a:off x="669960" y="2070000"/>
            <a:ext cx="5105520" cy="4162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1d528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Biometric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d528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Different between PalmPrint &amp;H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d528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PalmPrint Recognition Flow Ch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d528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Feature Ex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d528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Experiment &amp;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1d528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d528d"/>
                </a:solidFill>
                <a:latin typeface="Times New Roman"/>
                <a:ea typeface="Times New Roman"/>
              </a:rPr>
              <a:t>Commercial 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1B66-F158-4461-828D-8553C898539F}" type="datetime">
              <a:rPr b="0" lang="en-US" sz="1400" spc="-1" strike="noStrike">
                <a:solidFill>
                  <a:srgbClr val="1d528d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http://matlab-recognition-cod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1919-D1DC-46DE-BE4C-7775770AF884}" type="slidenum">
              <a:rPr b="0" lang="ar-SA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ENC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1d528d"/>
                </a:solidFill>
                <a:latin typeface="Arial"/>
              </a:rPr>
              <a:t>[1] A. K. Jain, R. Bolle, and S. Pankanti, </a:t>
            </a:r>
            <a:r>
              <a:rPr b="0" i="1" lang="en-MY" sz="1600" spc="-1" strike="noStrike">
                <a:solidFill>
                  <a:srgbClr val="1d528d"/>
                </a:solidFill>
                <a:latin typeface="Arial"/>
              </a:rPr>
              <a:t>Biometrics</a:t>
            </a:r>
            <a:r>
              <a:rPr b="0" lang="en-MY" sz="1600" spc="-1" strike="noStrike">
                <a:solidFill>
                  <a:srgbClr val="1d528d"/>
                </a:solidFill>
                <a:latin typeface="Arial"/>
              </a:rPr>
              <a:t>: </a:t>
            </a:r>
            <a:r>
              <a:rPr b="0" i="1" lang="en-MY" sz="1600" spc="-1" strike="noStrike">
                <a:solidFill>
                  <a:srgbClr val="1d528d"/>
                </a:solidFill>
                <a:latin typeface="Arial"/>
              </a:rPr>
              <a:t>Personal Identification in Networked Society</a:t>
            </a:r>
            <a:r>
              <a:rPr b="0" lang="en-MY" sz="1600" spc="-1" strike="noStrike">
                <a:solidFill>
                  <a:srgbClr val="1d528d"/>
                </a:solidFill>
                <a:latin typeface="Arial"/>
              </a:rPr>
              <a:t>, Kulwer Academic, 1999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1d528d"/>
                </a:solidFill>
                <a:latin typeface="Arial"/>
              </a:rPr>
              <a:t>[2]M.-H. Yang, D. J. Kriegman, and N. Ahuja, “Detecting faces in images: A Survey,” </a:t>
            </a:r>
            <a:r>
              <a:rPr b="0" i="1" lang="en-MY" sz="1600" spc="-1" strike="noStrike">
                <a:solidFill>
                  <a:srgbClr val="1d528d"/>
                </a:solidFill>
                <a:latin typeface="Arial"/>
              </a:rPr>
              <a:t>IEEE Trans. Patt. Anal. Machine Intell.</a:t>
            </a:r>
            <a:r>
              <a:rPr b="0" lang="en-MY" sz="1600" spc="-1" strike="noStrike">
                <a:solidFill>
                  <a:srgbClr val="1d528d"/>
                </a:solidFill>
                <a:latin typeface="Arial"/>
              </a:rPr>
              <a:t>, vol. 24, pp. 34-58, Jan. 2002.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1d528d"/>
                </a:solidFill>
                <a:latin typeface="Arial"/>
              </a:rPr>
              <a:t>[6] J. You, W. Li, and D. Zhang, "Hierarchical palmprint identification via multiple feature extraction," </a:t>
            </a:r>
            <a:r>
              <a:rPr b="0" i="1" lang="en-MY" sz="1600" spc="-1" strike="noStrike">
                <a:solidFill>
                  <a:srgbClr val="1d528d"/>
                </a:solidFill>
                <a:latin typeface="Arial"/>
              </a:rPr>
              <a:t>Pattern Recognition</a:t>
            </a:r>
            <a:r>
              <a:rPr b="0" lang="en-MY" sz="1600" spc="-1" strike="noStrike">
                <a:solidFill>
                  <a:srgbClr val="1d528d"/>
                </a:solidFill>
                <a:latin typeface="Arial"/>
              </a:rPr>
              <a:t>., vol. 35, pp. 847-859, 2002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1d528d"/>
                </a:solidFill>
                <a:latin typeface="Arial"/>
              </a:rPr>
              <a:t>[7] X. Wu, K. Wang, and D. Zhang, "Fuzzy directional energy element based palmprintidentification," </a:t>
            </a:r>
            <a:r>
              <a:rPr b="0" i="1" lang="en-MY" sz="1600" spc="-1" strike="noStrike">
                <a:solidFill>
                  <a:srgbClr val="1d528d"/>
                </a:solidFill>
                <a:latin typeface="Arial"/>
              </a:rPr>
              <a:t>Proc. </a:t>
            </a:r>
            <a:r>
              <a:rPr b="0" lang="en-MY" sz="1600" spc="-1" strike="noStrike">
                <a:solidFill>
                  <a:srgbClr val="1d528d"/>
                </a:solidFill>
                <a:latin typeface="Arial"/>
              </a:rPr>
              <a:t>ICPR-2002, Quebec City (Canada)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1d528d"/>
                </a:solidFill>
                <a:latin typeface="Arial"/>
              </a:rPr>
              <a:t>[8] W. Shu and D. Zhang, “Automated personal identification by palmprint,” </a:t>
            </a:r>
            <a:r>
              <a:rPr b="0" i="1" lang="en-MY" sz="1600" spc="-1" strike="noStrike">
                <a:solidFill>
                  <a:srgbClr val="1d528d"/>
                </a:solidFill>
                <a:latin typeface="Arial"/>
              </a:rPr>
              <a:t>Opt</a:t>
            </a:r>
            <a:r>
              <a:rPr b="0" lang="en-MY" sz="1600" spc="-1" strike="noStrike">
                <a:solidFill>
                  <a:srgbClr val="1d528d"/>
                </a:solidFill>
                <a:latin typeface="Arial"/>
              </a:rPr>
              <a:t>. </a:t>
            </a:r>
            <a:r>
              <a:rPr b="0" i="1" lang="en-MY" sz="1600" spc="-1" strike="noStrike">
                <a:solidFill>
                  <a:srgbClr val="1d528d"/>
                </a:solidFill>
                <a:latin typeface="Arial"/>
              </a:rPr>
              <a:t>Eng.</a:t>
            </a:r>
            <a:r>
              <a:rPr b="0" lang="en-MY" sz="1600" spc="-1" strike="noStrike">
                <a:solidFill>
                  <a:srgbClr val="1d528d"/>
                </a:solidFill>
                <a:latin typeface="Arial"/>
              </a:rPr>
              <a:t>, vol. 37, no. 8, pp. 2359-2362, Aug. 1998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1d528d"/>
                </a:solidFill>
                <a:latin typeface="Arial"/>
              </a:rPr>
              <a:t>[9]D. Zhang and W. Shu, “Two novel characteristics in palmprint verification: datum point invariance and line feature matching,” </a:t>
            </a:r>
            <a:r>
              <a:rPr b="0" i="1" lang="en-MY" sz="1600" spc="-1" strike="noStrike">
                <a:solidFill>
                  <a:srgbClr val="1d528d"/>
                </a:solidFill>
                <a:latin typeface="Arial"/>
              </a:rPr>
              <a:t>Pattern Recognit</a:t>
            </a:r>
            <a:r>
              <a:rPr b="0" lang="en-MY" sz="1600" spc="-1" strike="noStrike">
                <a:solidFill>
                  <a:srgbClr val="1d528d"/>
                </a:solidFill>
                <a:latin typeface="Arial"/>
              </a:rPr>
              <a:t>ion, vol. 32, no. 4, pp. 691-702, Apr. 1999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600" spc="-1" strike="noStrike">
                <a:solidFill>
                  <a:srgbClr val="1d528d"/>
                </a:solidFill>
                <a:latin typeface="Arial"/>
              </a:rPr>
              <a:t>[10] N. Duta, A. K. Jain, and Kanti V. Mardia, “Matching of palmprint,” </a:t>
            </a:r>
            <a:r>
              <a:rPr b="0" i="1" lang="en-MY" sz="1600" spc="-1" strike="noStrike">
                <a:solidFill>
                  <a:srgbClr val="1d528d"/>
                </a:solidFill>
                <a:latin typeface="Arial"/>
              </a:rPr>
              <a:t>Pattern Recognition. Lett</a:t>
            </a:r>
            <a:r>
              <a:rPr b="0" lang="en-MY" sz="1600" spc="-1" strike="noStrike">
                <a:solidFill>
                  <a:srgbClr val="1d528d"/>
                </a:solidFill>
                <a:latin typeface="Arial"/>
              </a:rPr>
              <a:t>., vol. 23, no. 4, pp. 477-485, Feb. 2002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Date Placeholder 3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AFB6-1F97-4FB3-B2B4-646ACBEE065C}" type="datetime">
              <a:rPr b="0" lang="en-US" sz="1400" spc="-1" strike="noStrike">
                <a:solidFill>
                  <a:srgbClr val="1d528d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http://matlab-recognition-cod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AAAD-255F-41AB-8DA5-587D80D354AB}" type="slidenum">
              <a:rPr b="0" lang="ar-SA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2"/>
          <p:cNvSpPr/>
          <p:nvPr/>
        </p:nvSpPr>
        <p:spPr>
          <a:xfrm>
            <a:off x="776160" y="1523880"/>
            <a:ext cx="4724640" cy="46483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28440">
            <a:solidFill>
              <a:srgbClr val="1d528d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k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j0078624[1]"/>
          <p:cNvPicPr/>
          <p:nvPr/>
        </p:nvPicPr>
        <p:blipFill>
          <a:blip r:embed="rId1"/>
          <a:stretch/>
        </p:blipFill>
        <p:spPr>
          <a:xfrm>
            <a:off x="5533920" y="2131920"/>
            <a:ext cx="3557520" cy="348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2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E548-7856-4C0B-9317-D45A6411F221}" type="datetime">
              <a:rPr b="0" lang="en-US" sz="1400" spc="-1" strike="noStrike">
                <a:solidFill>
                  <a:srgbClr val="1d528d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3124080" y="6477120"/>
            <a:ext cx="3430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http://matlab-recognition-cod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7375-589F-40B7-86A1-61950C0E683E}" type="slidenum">
              <a:rPr b="0" lang="ar-SA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8868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1424160" y="3235320"/>
            <a:ext cx="6095880" cy="6984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5400000"/>
          </a:gradFill>
          <a:ln w="28440">
            <a:solidFill>
              <a:srgbClr val="1d528d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gnition Flow 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1357200" y="4068720"/>
            <a:ext cx="6096240" cy="6984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28440">
            <a:solidFill>
              <a:srgbClr val="1d528d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 Extra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1447920" y="1432080"/>
            <a:ext cx="6095880" cy="6984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5400000"/>
          </a:gradFill>
          <a:ln w="28440">
            <a:solidFill>
              <a:srgbClr val="1d528d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metr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1409760" y="2316240"/>
            <a:ext cx="6095880" cy="6984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28440">
            <a:solidFill>
              <a:srgbClr val="1d528d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Biometric is the B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1371600" y="4935600"/>
            <a:ext cx="6095880" cy="6984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28440">
            <a:solidFill>
              <a:srgbClr val="1d528d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riment &amp; Resul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1401840" y="5746680"/>
            <a:ext cx="6273720" cy="6984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333c68"/>
              </a:gs>
              <a:gs pos="50000">
                <a:srgbClr val="6e81e0"/>
              </a:gs>
              <a:gs pos="100000">
                <a:srgbClr val="333c68"/>
              </a:gs>
            </a:gsLst>
            <a:lin ang="5400000"/>
          </a:gradFill>
          <a:ln w="28440">
            <a:solidFill>
              <a:srgbClr val="1d528d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l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4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82A3-75E3-4297-A128-8BD5DD004B01}" type="datetime">
              <a:rPr b="0" lang="en-US" sz="1400" spc="-1" strike="noStrike">
                <a:solidFill>
                  <a:srgbClr val="1d528d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477120"/>
            <a:ext cx="33861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http://matlab-recognition-cod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B92F-170E-4913-9194-6F74C3B0BC39}" type="slidenum">
              <a:rPr b="0" lang="ar-SA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10760"/>
            <a:ext cx="6629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Biometric Recognition System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Object 148"/>
          <p:cNvGraphicFramePr/>
          <p:nvPr/>
        </p:nvGraphicFramePr>
        <p:xfrm>
          <a:off x="390600" y="3413160"/>
          <a:ext cx="8210520" cy="27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413160"/>
                    <a:ext cx="821052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7"/>
          <p:cNvSpPr/>
          <p:nvPr/>
        </p:nvSpPr>
        <p:spPr>
          <a:xfrm>
            <a:off x="695160" y="1549440"/>
            <a:ext cx="781704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Tahoma"/>
                <a:ea typeface="宋体"/>
              </a:rPr>
              <a:t>Biometrics</a:t>
            </a:r>
            <a:r>
              <a:rPr b="0" lang="en-US" sz="2400" spc="-1" strike="noStrike">
                <a:solidFill>
                  <a:srgbClr val="0099cc"/>
                </a:solidFill>
                <a:latin typeface="Tahoma"/>
                <a:ea typeface="宋体"/>
              </a:rPr>
              <a:t> :</a:t>
            </a:r>
            <a:r>
              <a:rPr b="0" lang="en-US" sz="2800" spc="-1" strike="noStrike">
                <a:solidFill>
                  <a:srgbClr val="1d528d"/>
                </a:solidFill>
                <a:latin typeface="Tahoma"/>
                <a:ea typeface="宋体"/>
              </a:rPr>
              <a:t>is the automated use of physiological or behavioral characteristics to determine or verify and identity a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determine or verify an id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Biometrics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Date Placeholder 4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33E9-541B-473B-955B-44AF3AAE883F}" type="datetime">
              <a:rPr b="0" lang="en-US" sz="1400" spc="-1" strike="noStrike">
                <a:solidFill>
                  <a:srgbClr val="1d528d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http://matlab-recognition-cod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F2FE-6A48-4CCE-A84D-3D47FEA814D4}" type="slidenum">
              <a:rPr b="0" lang="ar-SA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447560"/>
            <a:ext cx="403848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209520" y="1438200"/>
          <a:ext cx="8686800" cy="48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438200"/>
                    <a:ext cx="8686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50600" y="24912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Hand and Palm Recogn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60360" y="1377720"/>
            <a:ext cx="403848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Features: dimensions and shape of the hand, fingers, (size and length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4680" y="1312920"/>
            <a:ext cx="4038480" cy="50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Features: Palmprint focuses on the inner surface of a hand, its pattern of lines and the shape of its surface</a:t>
            </a: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Date Placeholder 4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7437-599F-4B77-BAC7-4D3482EFB645}" type="datetime">
              <a:rPr b="0" lang="en-US" sz="1400" spc="-1" strike="noStrike">
                <a:solidFill>
                  <a:srgbClr val="1d528d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http://matlab-recognition-cod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3940-2200-4130-A89E-432249AEB5B7}" type="slidenum">
              <a:rPr b="0" lang="ar-SA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Object 3"/>
          <p:cNvGraphicFramePr/>
          <p:nvPr/>
        </p:nvGraphicFramePr>
        <p:xfrm>
          <a:off x="5897520" y="3384720"/>
          <a:ext cx="170964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97520" y="3384720"/>
                    <a:ext cx="170964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10" descr=""/>
          <p:cNvPicPr/>
          <p:nvPr/>
        </p:nvPicPr>
        <p:blipFill>
          <a:blip r:embed="rId3"/>
          <a:srcRect l="0" t="3859" r="0" b="2864"/>
          <a:stretch/>
        </p:blipFill>
        <p:spPr>
          <a:xfrm>
            <a:off x="1366920" y="2913120"/>
            <a:ext cx="2109600" cy="2720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Which Biometric is the Be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447560"/>
            <a:ext cx="70135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1d528d"/>
                </a:solidFill>
                <a:latin typeface="Arial"/>
              </a:rPr>
              <a:t>Why PalmPrint?</a:t>
            </a:r>
            <a:endParaRPr b="0" lang="en-US" sz="3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528d"/>
                </a:solidFill>
                <a:latin typeface="Arial"/>
              </a:rPr>
              <a:t>High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</a:rPr>
              <a:t>Distinctiveness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528d"/>
                </a:solidFill>
                <a:latin typeface="Arial"/>
              </a:rPr>
              <a:t>High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</a:rPr>
              <a:t>Permanence (duration)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528d"/>
                </a:solidFill>
                <a:latin typeface="Arial"/>
              </a:rPr>
              <a:t>High </a:t>
            </a:r>
            <a:r>
              <a:rPr b="0" lang="tr-TR" sz="2800" spc="-1" strike="noStrike">
                <a:solidFill>
                  <a:srgbClr val="ff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528d"/>
                </a:solidFill>
                <a:latin typeface="Arial"/>
              </a:rPr>
              <a:t>Medium </a:t>
            </a:r>
            <a:r>
              <a:rPr b="0" lang="tr-TR" sz="2800" spc="-1" strike="noStrike">
                <a:solidFill>
                  <a:srgbClr val="00b050"/>
                </a:solidFill>
                <a:latin typeface="Arial"/>
              </a:rPr>
              <a:t>Collectabillity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528d"/>
                </a:solidFill>
                <a:latin typeface="Arial"/>
              </a:rPr>
              <a:t>Medium </a:t>
            </a:r>
            <a:r>
              <a:rPr b="0" lang="tr-TR" sz="2800" spc="-1" strike="noStrike">
                <a:solidFill>
                  <a:srgbClr val="00b050"/>
                </a:solidFill>
                <a:latin typeface="Arial"/>
              </a:rPr>
              <a:t>Acceptability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528d"/>
                </a:solidFill>
                <a:latin typeface="Arial"/>
              </a:rPr>
              <a:t>Medium </a:t>
            </a:r>
            <a:r>
              <a:rPr b="0" lang="tr-TR" sz="2800" spc="-1" strike="noStrike">
                <a:solidFill>
                  <a:srgbClr val="00b050"/>
                </a:solidFill>
                <a:latin typeface="Arial"/>
              </a:rPr>
              <a:t>Universality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1d528d"/>
                </a:solidFill>
                <a:latin typeface="Arial"/>
              </a:rPr>
              <a:t>Medium </a:t>
            </a:r>
            <a:r>
              <a:rPr b="0" lang="tr-TR" sz="2800" spc="-1" strike="noStrike">
                <a:solidFill>
                  <a:srgbClr val="00b050"/>
                </a:solidFill>
                <a:latin typeface="Arial"/>
              </a:rPr>
              <a:t>Circumvention (fooling)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CEA4-8400-4ABB-B6A3-6C07B4637BF5}" type="datetime">
              <a:rPr b="0" lang="en-US" sz="1400" spc="-1" strike="noStrike">
                <a:solidFill>
                  <a:srgbClr val="1d528d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http://matlab-recognition-cod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73AB-CB16-4EC1-9EA9-CC5FEEC87673}" type="slidenum">
              <a:rPr b="0" lang="ar-SA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17F5-94D5-4ECF-89A4-46E57C8D4B25}" type="datetime">
              <a:rPr b="0" lang="en-US" sz="1400" spc="-1" strike="noStrike">
                <a:solidFill>
                  <a:srgbClr val="1d528d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http://matlab-recognition-cod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548B-8F22-40E3-A4BD-EE3A3EB0A1A6}" type="slidenum">
              <a:rPr b="0" lang="ar-SA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7849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almprint Recognition Flowchar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Object 55"/>
          <p:cNvGraphicFramePr/>
          <p:nvPr/>
        </p:nvGraphicFramePr>
        <p:xfrm>
          <a:off x="779400" y="2313000"/>
          <a:ext cx="7848720" cy="12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2313000"/>
                    <a:ext cx="784872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56"/>
          <p:cNvGraphicFramePr/>
          <p:nvPr/>
        </p:nvGraphicFramePr>
        <p:xfrm>
          <a:off x="922320" y="4064040"/>
          <a:ext cx="151776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2320" y="4064040"/>
                    <a:ext cx="15177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57"/>
          <p:cNvGraphicFramePr/>
          <p:nvPr/>
        </p:nvGraphicFramePr>
        <p:xfrm>
          <a:off x="2771640" y="4149720"/>
          <a:ext cx="5300640" cy="191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5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4149720"/>
                    <a:ext cx="5300640" cy="19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1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0CD9-6452-4D2A-8226-800C4816E792}" type="slidenum">
              <a:rPr b="0" lang="he-IL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262080" y="1339920"/>
            <a:ext cx="810720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2" descr=""/>
          <p:cNvPicPr/>
          <p:nvPr/>
        </p:nvPicPr>
        <p:blipFill>
          <a:blip r:embed="rId1"/>
          <a:stretch/>
        </p:blipFill>
        <p:spPr>
          <a:xfrm>
            <a:off x="3247920" y="3367080"/>
            <a:ext cx="1828800" cy="1346040"/>
          </a:xfrm>
          <a:prstGeom prst="rect">
            <a:avLst/>
          </a:prstGeom>
          <a:ln w="0">
            <a:noFill/>
          </a:ln>
        </p:spPr>
      </p:pic>
      <p:sp>
        <p:nvSpPr>
          <p:cNvPr id="171" name="Line 33"/>
          <p:cNvSpPr/>
          <p:nvPr/>
        </p:nvSpPr>
        <p:spPr>
          <a:xfrm>
            <a:off x="4581360" y="4208400"/>
            <a:ext cx="1440000" cy="1330560"/>
          </a:xfrm>
          <a:prstGeom prst="line">
            <a:avLst/>
          </a:prstGeom>
          <a:ln w="28440">
            <a:solidFill>
              <a:srgbClr val="6e81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34"/>
          <p:cNvSpPr/>
          <p:nvPr/>
        </p:nvSpPr>
        <p:spPr>
          <a:xfrm>
            <a:off x="4614840" y="4183200"/>
            <a:ext cx="2087640" cy="279360"/>
          </a:xfrm>
          <a:prstGeom prst="line">
            <a:avLst/>
          </a:prstGeom>
          <a:ln w="28440">
            <a:solidFill>
              <a:srgbClr val="6e81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35"/>
          <p:cNvSpPr/>
          <p:nvPr/>
        </p:nvSpPr>
        <p:spPr>
          <a:xfrm flipH="1" flipV="1">
            <a:off x="2633400" y="3255840"/>
            <a:ext cx="903240" cy="371520"/>
          </a:xfrm>
          <a:prstGeom prst="line">
            <a:avLst/>
          </a:prstGeom>
          <a:ln w="12600">
            <a:solidFill>
              <a:srgbClr val="6e81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37"/>
          <p:cNvSpPr/>
          <p:nvPr/>
        </p:nvSpPr>
        <p:spPr>
          <a:xfrm flipH="1">
            <a:off x="6792840" y="3017880"/>
            <a:ext cx="558720" cy="100944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8"/>
          <p:cNvSpPr/>
          <p:nvPr/>
        </p:nvSpPr>
        <p:spPr>
          <a:xfrm flipH="1">
            <a:off x="7031160" y="3141720"/>
            <a:ext cx="558720" cy="100944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39"/>
          <p:cNvSpPr/>
          <p:nvPr/>
        </p:nvSpPr>
        <p:spPr>
          <a:xfrm flipH="1">
            <a:off x="7254360" y="3265560"/>
            <a:ext cx="559080" cy="100944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6" descr="MCj02321800000[1]"/>
          <p:cNvPicPr/>
          <p:nvPr/>
        </p:nvPicPr>
        <p:blipFill>
          <a:blip r:embed="rId2"/>
          <a:stretch/>
        </p:blipFill>
        <p:spPr>
          <a:xfrm>
            <a:off x="7365960" y="2282760"/>
            <a:ext cx="944640" cy="898560"/>
          </a:xfrm>
          <a:prstGeom prst="rect">
            <a:avLst/>
          </a:prstGeom>
          <a:ln w="0">
            <a:noFill/>
          </a:ln>
        </p:spPr>
      </p:pic>
      <p:sp>
        <p:nvSpPr>
          <p:cNvPr id="178" name="مستطيل 15"/>
          <p:cNvSpPr/>
          <p:nvPr/>
        </p:nvSpPr>
        <p:spPr>
          <a:xfrm>
            <a:off x="2322360" y="360360"/>
            <a:ext cx="52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mage Acqui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Object 2"/>
          <p:cNvGraphicFramePr/>
          <p:nvPr/>
        </p:nvGraphicFramePr>
        <p:xfrm>
          <a:off x="6089760" y="4471920"/>
          <a:ext cx="890640" cy="122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9760" y="4471920"/>
                    <a:ext cx="890640" cy="12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3"/>
          <p:cNvGraphicFramePr/>
          <p:nvPr/>
        </p:nvGraphicFramePr>
        <p:xfrm>
          <a:off x="1541520" y="2593800"/>
          <a:ext cx="1047600" cy="143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1520" y="2593800"/>
                    <a:ext cx="1047600" cy="14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مستطيل 19"/>
          <p:cNvSpPr/>
          <p:nvPr/>
        </p:nvSpPr>
        <p:spPr>
          <a:xfrm>
            <a:off x="1271160" y="1635120"/>
            <a:ext cx="3897720" cy="39888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528d"/>
                </a:solidFill>
                <a:latin typeface="Arial"/>
              </a:rPr>
              <a:t>A scanner with high re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مستطيل 20"/>
          <p:cNvSpPr/>
          <p:nvPr/>
        </p:nvSpPr>
        <p:spPr>
          <a:xfrm>
            <a:off x="1101960" y="42354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Degraded 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مستطيل 21"/>
          <p:cNvSpPr/>
          <p:nvPr/>
        </p:nvSpPr>
        <p:spPr>
          <a:xfrm>
            <a:off x="5470200" y="575316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cc"/>
                </a:solidFill>
                <a:latin typeface="Arial"/>
              </a:rPr>
              <a:t>Original 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Preproces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عنصر نائب للتاريخ 3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488B-E7FB-403A-83E9-15A5FA252649}" type="datetime">
              <a:rPr b="0" lang="en-US" sz="1400" spc="-1" strike="noStrike">
                <a:solidFill>
                  <a:srgbClr val="1d528d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عنصر نائب للتذييل 4"/>
          <p:cNvSpPr/>
          <p:nvPr/>
        </p:nvSpPr>
        <p:spPr>
          <a:xfrm>
            <a:off x="3124080" y="6477120"/>
            <a:ext cx="2895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Arial"/>
              </a:rPr>
              <a:t>http://matlab-recognition-cod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عنصر نائب لرقم الشريحة 5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7061-8E01-4B8F-BD26-E23F49531877}" type="slidenum">
              <a:rPr b="0" lang="ar-SA" sz="1400" spc="-1" strike="noStrike">
                <a:solidFill>
                  <a:srgbClr val="1d528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ransforming image from RGB to Gray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ut only the palm from the hand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91" name="Object 4"/>
          <p:cNvGraphicFramePr/>
          <p:nvPr/>
        </p:nvGraphicFramePr>
        <p:xfrm>
          <a:off x="885960" y="2997360"/>
          <a:ext cx="1484280" cy="203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2997360"/>
                    <a:ext cx="14842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3" name="Picture 6" descr=""/>
          <p:cNvPicPr/>
          <p:nvPr/>
        </p:nvPicPr>
        <p:blipFill>
          <a:blip r:embed="rId3"/>
          <a:stretch/>
        </p:blipFill>
        <p:spPr>
          <a:xfrm>
            <a:off x="3516480" y="3035160"/>
            <a:ext cx="1500120" cy="20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4"/>
          <a:srcRect l="25899" t="23351" r="26040" b="49791"/>
          <a:stretch/>
        </p:blipFill>
        <p:spPr>
          <a:xfrm>
            <a:off x="5975280" y="3168720"/>
            <a:ext cx="1609920" cy="1635120"/>
          </a:xfrm>
          <a:prstGeom prst="rect">
            <a:avLst/>
          </a:prstGeom>
          <a:ln w="0">
            <a:noFill/>
          </a:ln>
        </p:spPr>
      </p:pic>
      <p:sp>
        <p:nvSpPr>
          <p:cNvPr id="195" name="سهم إلى اليمين 14"/>
          <p:cNvSpPr/>
          <p:nvPr/>
        </p:nvSpPr>
        <p:spPr>
          <a:xfrm>
            <a:off x="2446200" y="3940200"/>
            <a:ext cx="1017720" cy="52200"/>
          </a:xfrm>
          <a:prstGeom prst="rightArrow">
            <a:avLst>
              <a:gd name="adj1" fmla="val 50000"/>
              <a:gd name="adj2" fmla="val 49373"/>
            </a:avLst>
          </a:prstGeom>
          <a:solidFill>
            <a:srgbClr val="0099cc"/>
          </a:solidFill>
          <a:ln w="117360">
            <a:solidFill>
              <a:srgbClr val="1d528d"/>
            </a:solidFill>
            <a:round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سهم إلى اليمين 15"/>
          <p:cNvSpPr/>
          <p:nvPr/>
        </p:nvSpPr>
        <p:spPr>
          <a:xfrm>
            <a:off x="4997520" y="3954600"/>
            <a:ext cx="887400" cy="44280"/>
          </a:xfrm>
          <a:prstGeom prst="rightArrow">
            <a:avLst>
              <a:gd name="adj1" fmla="val 50000"/>
              <a:gd name="adj2" fmla="val 51586"/>
            </a:avLst>
          </a:prstGeom>
          <a:solidFill>
            <a:srgbClr val="0099cc"/>
          </a:solidFill>
          <a:ln w="117360">
            <a:solidFill>
              <a:srgbClr val="1d528d"/>
            </a:solidFill>
            <a:round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0:00:01Z</dcterms:created>
  <dc:creator>ayman</dc:creator>
  <dc:description/>
  <dc:language>en-US</dc:language>
  <cp:lastModifiedBy>HP</cp:lastModifiedBy>
  <dcterms:modified xsi:type="dcterms:W3CDTF">2014-11-05T14:49:17Z</dcterms:modified>
  <cp:revision>1035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33</vt:lpwstr>
  </property>
</Properties>
</file>